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429B-39F7-44D3-9B5D-5A5EC5D93E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AAEA-AD08-4967-85A1-52E098CCD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E33-1071-4E2A-BED2-4437C2A4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6DF-FF5D-477C-87D1-C3C236FB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842-A9E8-465F-9B13-F629F8BA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50C-D741-476E-8DB8-A995D927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8216-96FA-40F9-8BA3-B774E2BA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0D23-AD44-4A0D-AA5A-37294618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55BA-1497-4F15-A13E-A9745797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9985-40BC-41EA-B0A6-BC402006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3AC3-90C4-4315-9897-5072572E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A90-F162-4D18-90B1-2D74F1A4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BC1C-D469-4AEB-BDE4-27B93BC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889-AFF0-4DC8-9340-A4CFACF4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CCFF-55AF-418D-9E8C-1D3E682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16D8-2FBE-43C3-8C8B-2C06CB8D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5F05-B5D8-4246-8A9F-FE1476A0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E3E4-973D-42C1-A936-EA158B99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7722-4865-4A59-9C76-BD1F5F8B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4D6-B71D-4119-A3D3-7D2D96FD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C9D-0553-4D7A-843B-FC06E5FE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71E-404F-47A0-86C1-61A0DC06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784-CC90-49C0-81DE-59BC49E0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2DD-3504-4569-BB95-7C75BF9C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E71-1AB7-43D5-A7DB-D381D2C0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A9B-93C0-4385-8618-3D7C8C6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A48-F1F4-4D43-A137-00BB1707C23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6CB0-0502-47B8-881E-F3F5126B5ED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становка учебной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Жили у бабуси два весёлых гуся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Объект 4" descr="30"/>
          <p:cNvPicPr/>
          <p:nvPr/>
        </p:nvPicPr>
        <p:blipFill>
          <a:blip r:embed="rId1"/>
          <a:stretch/>
        </p:blipFill>
        <p:spPr>
          <a:xfrm>
            <a:off x="5003640" y="2421000"/>
            <a:ext cx="2737080" cy="2303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йдите числи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юродный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йк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йни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ак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ы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иклассни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и пятых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троит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йн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img3"/>
          <p:cNvPicPr/>
          <p:nvPr/>
        </p:nvPicPr>
        <p:blipFill>
          <a:blip r:embed="rId1"/>
          <a:stretch/>
        </p:blipFill>
        <p:spPr>
          <a:xfrm>
            <a:off x="8296200" y="2100240"/>
            <a:ext cx="847800" cy="1209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img5"/>
          <p:cNvPicPr/>
          <p:nvPr/>
        </p:nvPicPr>
        <p:blipFill>
          <a:blip r:embed="rId2"/>
          <a:stretch/>
        </p:blipFill>
        <p:spPr>
          <a:xfrm>
            <a:off x="0" y="5229360"/>
            <a:ext cx="743040" cy="1085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-1179360"/>
            <a:ext cx="69436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6696000" cy="4392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WordArt 14"/>
          <p:cNvSpPr txBox="1"/>
          <p:nvPr/>
        </p:nvSpPr>
        <p:spPr>
          <a:xfrm>
            <a:off x="971640" y="1268280"/>
            <a:ext cx="62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ЁН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ИТЕЛЬНЫХ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20" descr="img2"/>
          <p:cNvPicPr/>
          <p:nvPr/>
        </p:nvPicPr>
        <p:blipFill>
          <a:blip r:embed="rId9"/>
          <a:stretch/>
        </p:blipFill>
        <p:spPr>
          <a:xfrm>
            <a:off x="5364000" y="5445000"/>
            <a:ext cx="838440" cy="116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сегодня узнали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будем отличать эту часть речи от других? (задай вопросы по изученной тем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нравилось ли вам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ого были трудности? Каки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становка учебной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пишите слова из предложения, распределив по  частям ре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 каким словом возникла проблем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3961080" cy="4217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строение плана  проек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Выяснить как называются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Что обознача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На какие вопросы отвеча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Объект 4" descr="30"/>
          <p:cNvPicPr/>
          <p:nvPr/>
        </p:nvPicPr>
        <p:blipFill>
          <a:blip r:embed="rId1"/>
          <a:stretch/>
        </p:blipFill>
        <p:spPr>
          <a:xfrm>
            <a:off x="5003640" y="2421000"/>
            <a:ext cx="2737080" cy="2303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6870600" cy="18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шесть, осень, восемь, красивая, первый, бежит, сорок, семья, трет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8" name="Organization Chart 33"/>
          <p:cNvGrpSpPr/>
          <p:nvPr/>
        </p:nvGrpSpPr>
        <p:grpSpPr>
          <a:xfrm>
            <a:off x="1357200" y="3286080"/>
            <a:ext cx="6624720" cy="2746440"/>
            <a:chOff x="1357200" y="3286080"/>
            <a:chExt cx="6624720" cy="2746440"/>
          </a:xfrm>
        </p:grpSpPr>
        <p:cxnSp>
          <p:nvCxnSpPr>
            <p:cNvPr id="169" name="_s1028"/>
            <p:cNvCxnSpPr/>
            <p:nvPr/>
          </p:nvCxnSpPr>
          <p:spPr>
            <a:xfrm flipV="1" rot="16200000">
              <a:off x="4988520" y="3613680"/>
              <a:ext cx="405720" cy="1764360"/>
            </a:xfrm>
            <a:prstGeom prst="bentConnector3">
              <a:avLst>
                <a:gd name="adj1" fmla="val 22646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0" name="_s1029"/>
            <p:cNvCxnSpPr/>
            <p:nvPr/>
          </p:nvCxnSpPr>
          <p:spPr>
            <a:xfrm flipH="1" flipV="1" rot="5400000">
              <a:off x="3411360" y="3836880"/>
              <a:ext cx="462960" cy="1261080"/>
            </a:xfrm>
            <a:prstGeom prst="bentConnector3">
              <a:avLst>
                <a:gd name="adj1" fmla="val 19844"/>
              </a:avLst>
            </a:prstGeom>
            <a:ln w="28440">
              <a:solidFill>
                <a:srgbClr val="ffb800"/>
              </a:solidFill>
              <a:miter/>
            </a:ln>
          </p:spPr>
        </p:cxnSp>
        <p:sp>
          <p:nvSpPr>
            <p:cNvPr id="171" name="_s1030"/>
            <p:cNvSpPr/>
            <p:nvPr/>
          </p:nvSpPr>
          <p:spPr>
            <a:xfrm>
              <a:off x="2076120" y="3286080"/>
              <a:ext cx="5042160" cy="104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b200"/>
              </a:solidFill>
              <a:miter/>
            </a:ln>
            <a:effectLst>
              <a:outerShdw dist="63504" dir="19383909" blurRad="0" rotWithShape="0">
                <a:srgbClr val="00b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МЯ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 u="sng">
                  <a:solidFill>
                    <a:srgbClr val="00b200"/>
                  </a:solidFill>
                  <a:uFillTx/>
                  <a:latin typeface="Comic Sans MS"/>
                </a:rPr>
                <a:t>ЧИСЛИТЕЛЬНОЕ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1031"/>
            <p:cNvSpPr/>
            <p:nvPr/>
          </p:nvSpPr>
          <p:spPr>
            <a:xfrm>
              <a:off x="1357200" y="4815360"/>
              <a:ext cx="2808360" cy="1217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703dff"/>
              </a:solidFill>
              <a:miter/>
            </a:ln>
            <a:effectLst>
              <a:outerShdw dist="63504" dir="19383909" blurRad="0" rotWithShape="0">
                <a:srgbClr val="703d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твечает на вопро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Comic Sans MS"/>
                </a:rPr>
                <a:t>сколько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бозначает </a:t>
              </a:r>
              <a:r>
                <a:rPr b="0" lang="en-US" sz="1800" spc="-1" strike="noStrike" u="sng">
                  <a:solidFill>
                    <a:srgbClr val="00b200"/>
                  </a:solidFill>
                  <a:uFillTx/>
                  <a:latin typeface="Comic Sans MS"/>
                </a:rPr>
                <a:t>количеств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редметов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_s1032"/>
            <p:cNvSpPr/>
            <p:nvPr/>
          </p:nvSpPr>
          <p:spPr>
            <a:xfrm>
              <a:off x="4668480" y="4815360"/>
              <a:ext cx="3313440" cy="1217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703dff"/>
              </a:solidFill>
              <a:miter/>
            </a:ln>
            <a:effectLst>
              <a:outerShdw dist="63504" dir="19383909" blurRad="0" rotWithShape="0">
                <a:srgbClr val="703d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твечает на вопро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Comic Sans MS"/>
                </a:rPr>
                <a:t>какой? который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бозначает </a:t>
              </a:r>
              <a:r>
                <a:rPr b="0" lang="en-US" sz="1800" spc="-1" strike="noStrike" u="sng">
                  <a:solidFill>
                    <a:srgbClr val="00b200"/>
                  </a:solidFill>
                  <a:uFillTx/>
                  <a:latin typeface="Comic Sans MS"/>
                </a:rPr>
                <a:t>порядок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редметов при счёт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4" name="Picture 54" descr="img0"/>
          <p:cNvPicPr/>
          <p:nvPr/>
        </p:nvPicPr>
        <p:blipFill>
          <a:blip r:embed="rId4"/>
          <a:stretch/>
        </p:blipFill>
        <p:spPr>
          <a:xfrm>
            <a:off x="7020000" y="476280"/>
            <a:ext cx="628560" cy="1143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личественные числи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4184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чают на вопрос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скольк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значают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количество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ме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ы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шесть, пятнадцать, пять десятых, тр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9" descr="IMAG0012"/>
          <p:cNvPicPr/>
          <p:nvPr/>
        </p:nvPicPr>
        <p:blipFill>
          <a:blip r:embed="rId1"/>
          <a:stretch/>
        </p:blipFill>
        <p:spPr>
          <a:xfrm>
            <a:off x="4632480" y="1773360"/>
            <a:ext cx="3743280" cy="4751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img5"/>
          <p:cNvPicPr/>
          <p:nvPr/>
        </p:nvPicPr>
        <p:blipFill>
          <a:blip r:embed="rId2"/>
          <a:stretch/>
        </p:blipFill>
        <p:spPr>
          <a:xfrm>
            <a:off x="285840" y="142920"/>
            <a:ext cx="788760" cy="1152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img8"/>
          <p:cNvPicPr/>
          <p:nvPr/>
        </p:nvPicPr>
        <p:blipFill>
          <a:blip r:embed="rId3"/>
          <a:stretch/>
        </p:blipFill>
        <p:spPr>
          <a:xfrm>
            <a:off x="2700360" y="5373720"/>
            <a:ext cx="743040" cy="1085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рядковые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исли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1828440"/>
            <a:ext cx="37450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Отвечают на вопрос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какой? который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Обозначают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порядок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предметов при счёте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Примеры: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первый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четвёртый, тридцаты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6" descr="img10"/>
          <p:cNvPicPr/>
          <p:nvPr/>
        </p:nvPicPr>
        <p:blipFill>
          <a:blip r:embed="rId1"/>
          <a:stretch/>
        </p:blipFill>
        <p:spPr>
          <a:xfrm>
            <a:off x="3492360" y="5157720"/>
            <a:ext cx="743040" cy="1085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img4"/>
          <p:cNvPicPr/>
          <p:nvPr/>
        </p:nvPicPr>
        <p:blipFill>
          <a:blip r:embed="rId2"/>
          <a:stretch/>
        </p:blipFill>
        <p:spPr>
          <a:xfrm>
            <a:off x="6659640" y="404640"/>
            <a:ext cx="761760" cy="102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3"/>
          <a:stretch/>
        </p:blipFill>
        <p:spPr>
          <a:xfrm>
            <a:off x="4846680" y="1773360"/>
            <a:ext cx="3682800" cy="4392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225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725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725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5" descr="img5"/>
          <p:cNvPicPr/>
          <p:nvPr/>
        </p:nvPicPr>
        <p:blipFill>
          <a:blip r:embed="rId1"/>
          <a:stretch/>
        </p:blipFill>
        <p:spPr>
          <a:xfrm>
            <a:off x="5867280" y="4797360"/>
            <a:ext cx="743040" cy="1085760"/>
          </a:xfrm>
          <a:prstGeom prst="rect">
            <a:avLst/>
          </a:prstGeom>
          <a:ln w="0">
            <a:noFill/>
          </a:ln>
        </p:spPr>
      </p:pic>
      <p:sp>
        <p:nvSpPr>
          <p:cNvPr id="188" name="WordArt 7"/>
          <p:cNvSpPr txBox="1"/>
          <p:nvPr/>
        </p:nvSpPr>
        <p:spPr>
          <a:xfrm>
            <a:off x="1457280" y="2384280"/>
            <a:ext cx="622944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 каждый день и каждый ча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ать готово, сколько вас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я могу, имей в виду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ать, который ты в ряду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9" name="Picture 8" descr="img10"/>
          <p:cNvPicPr/>
          <p:nvPr/>
        </p:nvPicPr>
        <p:blipFill>
          <a:blip r:embed="rId2"/>
          <a:stretch/>
        </p:blipFill>
        <p:spPr>
          <a:xfrm>
            <a:off x="2484360" y="5084640"/>
            <a:ext cx="743040" cy="1086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обери послови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еро   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блудиться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ь 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дти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ь раз отмерь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ум хорошо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трёх сосн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свои пять пальц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два лучш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раз отреж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ного не жду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все четыре сторо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7" descr="img4"/>
          <p:cNvPicPr/>
          <p:nvPr/>
        </p:nvPicPr>
        <p:blipFill>
          <a:blip r:embed="rId1"/>
          <a:stretch/>
        </p:blipFill>
        <p:spPr>
          <a:xfrm>
            <a:off x="2987640" y="5300640"/>
            <a:ext cx="762120" cy="10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mg2"/>
          <p:cNvPicPr/>
          <p:nvPr/>
        </p:nvPicPr>
        <p:blipFill>
          <a:blip r:embed="rId2"/>
          <a:stretch/>
        </p:blipFill>
        <p:spPr>
          <a:xfrm>
            <a:off x="250920" y="333360"/>
            <a:ext cx="838080" cy="116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70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33 E">
                                      <p:cBhvr>
                                        <p:cTn id="172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2312 L 0.00139 0.09225 E">
                                      <p:cBhvr>
                                        <p:cTn id="174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781 -0.13618 E">
                                      <p:cBhvr>
                                        <p:cTn id="176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9434 E">
                                      <p:cBhvr>
                                        <p:cTn id="178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035 E">
                                      <p:cBhvr>
                                        <p:cTn id="180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640908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Comic Sans MS"/>
              </a:rPr>
              <a:t>Пять или пятёрка – какая разница?</a:t>
            </a:r>
            <a:br>
              <a:rPr sz="4000"/>
            </a:br>
            <a:r>
              <a:rPr b="0" lang="ru-RU" sz="4000" spc="-1" strike="noStrike">
                <a:solidFill>
                  <a:srgbClr val="0099cc"/>
                </a:solidFill>
                <a:latin typeface="Comic Sans MS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20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ять, пятёрка и пята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ь моне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ь тетра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ный пята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ёр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76720" y="2565360"/>
            <a:ext cx="3743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" descr="img4"/>
          <p:cNvPicPr/>
          <p:nvPr/>
        </p:nvPicPr>
        <p:blipFill>
          <a:blip r:embed="rId1"/>
          <a:stretch/>
        </p:blipFill>
        <p:spPr>
          <a:xfrm>
            <a:off x="611280" y="692280"/>
            <a:ext cx="761760" cy="102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img8"/>
          <p:cNvPicPr/>
          <p:nvPr/>
        </p:nvPicPr>
        <p:blipFill>
          <a:blip r:embed="rId2"/>
          <a:stretch/>
        </p:blipFill>
        <p:spPr>
          <a:xfrm>
            <a:off x="5219640" y="4941720"/>
            <a:ext cx="743040" cy="1086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17:49:41Z</dcterms:created>
  <dc:creator>Жена</dc:creator>
  <dc:description/>
  <dc:language>en-US</dc:language>
  <cp:lastModifiedBy>User</cp:lastModifiedBy>
  <dcterms:modified xsi:type="dcterms:W3CDTF">2017-10-12T22:09:59Z</dcterms:modified>
  <cp:revision>36</cp:revision>
  <dc:subject/>
  <dc:title>Имя числительное</dc:title>
</cp:coreProperties>
</file>